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jpeg" ContentType="image/jpeg"/>
  <Override PartName="/ppt/media/image25.png" ContentType="image/png"/>
  <Override PartName="/ppt/media/image4.jpeg" ContentType="image/jpeg"/>
  <Override PartName="/ppt/media/glass.wav" ContentType="audio/x-wav"/>
  <Override PartName="/ppt/media/image1.jpeg" ContentType="image/jpeg"/>
  <Override PartName="/ppt/media/image7.png" ContentType="image/png"/>
  <Override PartName="/ppt/media/image5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12.jpeg" ContentType="image/jpeg"/>
  <Override PartName="/ppt/media/drumroll.wav" ContentType="audio/x-wav"/>
  <Override PartName="/ppt/media/image27.png" ContentType="image/png"/>
  <Override PartName="/ppt/media/image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6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2.png" ContentType="image/png"/>
  <Override PartName="/ppt/media/camer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4C51-E31F-402D-97A7-00487396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0A3-3803-4E23-B9F0-5ABEC9B3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D81D-6F13-4A12-9B0D-0134E7A9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7C1-5C0A-48E2-B2D3-DB748259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50EE-4485-495A-AFCC-DFDFCF9F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A354-5574-4139-B2DC-1626F060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4B4A-14A5-4B18-9AC5-11CED719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A7A8-00C1-4F37-B212-1336115A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E561-201C-464F-94CD-376B74E9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97E6-8D5F-4960-A43A-DFBF073A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6555-F874-4737-8B79-304FDC5E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5425-8AFA-4E8A-B5E4-3B3C2312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3408-E59B-4890-8D49-B9EC24634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glass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0.jpe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0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0.jpe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Comic Sans MS"/>
              </a:rPr>
              <a:t>PER CRESCERE IN AL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3357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Comic Sans MS"/>
              </a:rPr>
              <a:t>…</a:t>
            </a:r>
            <a:r>
              <a:rPr b="0" lang="it-IT" sz="4400" spc="-1" strike="noStrike">
                <a:solidFill>
                  <a:srgbClr val="ffff00"/>
                </a:solidFill>
                <a:latin typeface="Comic Sans MS"/>
              </a:rPr>
              <a:t>.c’è bisogno di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386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 porterà frutti abbonda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86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Un bambino per crescer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5229000"/>
            <a:ext cx="8893080" cy="146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ff"/>
                </a:solidFill>
                <a:latin typeface="Comic Sans MS"/>
              </a:rPr>
              <a:t>Non ha solo bisogno di dormire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486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..o solo bisogno di mangi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429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..ha anche bisogno di a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5499000" cy="48639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86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 quindi di una ma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640" y="4437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..e di un pap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873920" cy="40896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508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 bisogno di giocare e stare con gli am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che 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476000" y="3715920"/>
            <a:ext cx="72327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…… </a:t>
            </a: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hai bisogno di aiu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3048120" cy="5162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124000" y="1700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..se vuoi essermi amico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86040" y="1916280"/>
            <a:ext cx="6417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Si chiamano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800"/>
                            </p:stCondLst>
                            <p:childTnLst>
                              <p:par>
                                <p:cTn id="222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7800"/>
                            </p:stCondLst>
                            <p:childTnLst>
                              <p:par>
                                <p:cTn id="22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249440" y="3695400"/>
            <a:ext cx="4437000" cy="23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Segni efficaci della grazia di Dio, istituiti da Gesù ,                 per santificar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838080"/>
            <a:ext cx="7696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ff9933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I  SACRAMENTI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50000">
                    <a:srgbClr val="ff9933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685800" y="2666880"/>
            <a:ext cx="2905200" cy="3429000"/>
          </a:xfrm>
          <a:prstGeom prst="rect">
            <a:avLst/>
          </a:prstGeom>
          <a:ln w="12600">
            <a:solidFill>
              <a:srgbClr val="ff0066"/>
            </a:solidFill>
            <a:miter/>
          </a:ln>
        </p:spPr>
      </p:pic>
    </p:spTree>
  </p:cSld>
  <p:transition spd="med" advTm="35000">
    <p:pull dir="r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264360" cy="5654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i vuole un s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78040" y="4941720"/>
            <a:ext cx="7337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Ma un seme per crescere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ha bisogno di molte cos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1840" descr=""/>
          <p:cNvPicPr/>
          <p:nvPr/>
        </p:nvPicPr>
        <p:blipFill>
          <a:blip r:embed="rId2"/>
          <a:srcRect l="12393" t="11034" r="17901" b="6620"/>
          <a:stretch/>
        </p:blipFill>
        <p:spPr>
          <a:xfrm rot="20479800">
            <a:off x="826560" y="1773000"/>
            <a:ext cx="3008520" cy="441936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88" name="1660" descr=""/>
          <p:cNvPicPr/>
          <p:nvPr/>
        </p:nvPicPr>
        <p:blipFill>
          <a:blip r:embed="rId3"/>
          <a:srcRect l="0" t="6168" r="12053" b="16962"/>
          <a:stretch/>
        </p:blipFill>
        <p:spPr>
          <a:xfrm rot="525000">
            <a:off x="2771280" y="1844280"/>
            <a:ext cx="3459240" cy="3962520"/>
          </a:xfrm>
          <a:prstGeom prst="rect">
            <a:avLst/>
          </a:prstGeom>
          <a:ln w="12600">
            <a:solidFill>
              <a:srgbClr val="ff9900"/>
            </a:solidFill>
            <a:miter/>
          </a:ln>
        </p:spPr>
      </p:pic>
      <p:pic>
        <p:nvPicPr>
          <p:cNvPr id="89" name="0029" descr=""/>
          <p:cNvPicPr/>
          <p:nvPr/>
        </p:nvPicPr>
        <p:blipFill>
          <a:blip r:embed="rId4"/>
          <a:srcRect l="9790" t="4724" r="16316" b="11024"/>
          <a:stretch/>
        </p:blipFill>
        <p:spPr>
          <a:xfrm rot="200400">
            <a:off x="5651640" y="2205000"/>
            <a:ext cx="3047760" cy="38862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ahoma"/>
              </a:rPr>
              <a:t>SACRAMENTI DELL’INIZI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20449200">
            <a:off x="-104400" y="1267920"/>
            <a:ext cx="305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Battesi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9800">
            <a:off x="6501240" y="1412640"/>
            <a:ext cx="24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Cres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74200">
            <a:off x="3444480" y="1267920"/>
            <a:ext cx="310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3300"/>
                </a:solidFill>
                <a:latin typeface="Comic Sans MS"/>
              </a:rPr>
              <a:t>Eucarest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8080" y="5229360"/>
            <a:ext cx="8935920" cy="2104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ono la base della vita crist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5000">
    <p:pull dir="r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38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38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38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38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38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385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7" dur="38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" dur="38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8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38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0" dur="38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2" dur="38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ahoma"/>
              </a:rPr>
              <a:t>SACRAMENTI DELLA GUARIG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0449200">
            <a:off x="-146880" y="1283760"/>
            <a:ext cx="358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Riconcili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855600">
            <a:off x="4032360" y="1557360"/>
            <a:ext cx="45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Unzione degli infer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0347" descr=""/>
          <p:cNvPicPr/>
          <p:nvPr/>
        </p:nvPicPr>
        <p:blipFill>
          <a:blip r:embed="rId2"/>
          <a:srcRect l="23952" t="0" r="0" b="0"/>
          <a:stretch/>
        </p:blipFill>
        <p:spPr>
          <a:xfrm rot="20447400">
            <a:off x="826560" y="1844280"/>
            <a:ext cx="2840040" cy="3733920"/>
          </a:xfrm>
          <a:prstGeom prst="rect">
            <a:avLst/>
          </a:prstGeom>
          <a:ln w="12600">
            <a:solidFill>
              <a:srgbClr val="cc99ff"/>
            </a:solidFill>
            <a:miter/>
          </a:ln>
        </p:spPr>
      </p:pic>
      <p:pic>
        <p:nvPicPr>
          <p:cNvPr id="99" name="0204" descr=""/>
          <p:cNvPicPr/>
          <p:nvPr/>
        </p:nvPicPr>
        <p:blipFill>
          <a:blip r:embed="rId3"/>
          <a:srcRect l="10770" t="0" r="21540" b="0"/>
          <a:stretch/>
        </p:blipFill>
        <p:spPr>
          <a:xfrm rot="798600">
            <a:off x="4355640" y="2133720"/>
            <a:ext cx="3008520" cy="396216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208080" y="5229360"/>
            <a:ext cx="893592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essi, la Chiesa rende presente la misericordia e la bontà di Dio per no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5000">
    <p:pull dir="r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38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385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6" dur="38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8" dur="38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38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38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9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1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ahoma"/>
              </a:rPr>
              <a:t>SACRAMENTI DEL </a:t>
            </a:r>
            <a:br>
              <a:rPr sz="3600"/>
            </a:br>
            <a:r>
              <a:rPr b="1" lang="en-US" sz="3600" spc="-1" strike="noStrike">
                <a:solidFill>
                  <a:srgbClr val="cc3300"/>
                </a:solidFill>
                <a:latin typeface="Tahoma"/>
              </a:rPr>
              <a:t>SERVIZIO NELLA COMUNITA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0449200">
            <a:off x="-124560" y="1396800"/>
            <a:ext cx="28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atrimon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855600">
            <a:off x="5271480" y="1557360"/>
            <a:ext cx="23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Sacerdoz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0020" descr=""/>
          <p:cNvPicPr/>
          <p:nvPr/>
        </p:nvPicPr>
        <p:blipFill>
          <a:blip r:embed="rId2"/>
          <a:srcRect l="4921" t="4364" r="0" b="11638"/>
          <a:stretch/>
        </p:blipFill>
        <p:spPr>
          <a:xfrm rot="20554800">
            <a:off x="838080" y="1904760"/>
            <a:ext cx="2756160" cy="4114800"/>
          </a:xfrm>
          <a:prstGeom prst="rect">
            <a:avLst/>
          </a:prstGeom>
          <a:ln w="12600">
            <a:solidFill>
              <a:srgbClr val="ff99cc"/>
            </a:solidFill>
            <a:miter/>
          </a:ln>
        </p:spPr>
      </p:pic>
      <p:pic>
        <p:nvPicPr>
          <p:cNvPr id="105" name="1843" descr=""/>
          <p:cNvPicPr/>
          <p:nvPr/>
        </p:nvPicPr>
        <p:blipFill>
          <a:blip r:embed="rId3"/>
          <a:srcRect l="17391" t="13333" r="16054" b="8000"/>
          <a:stretch/>
        </p:blipFill>
        <p:spPr>
          <a:xfrm rot="882600">
            <a:off x="4140000" y="2133360"/>
            <a:ext cx="3019320" cy="358128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208080" y="5229360"/>
            <a:ext cx="893592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anno la forza per amare gli altri secondo la nostra voc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5000">
    <p:pull dir="rd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38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385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5" dur="38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7" dur="38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500"/>
                            </p:stCondLst>
                            <p:childTnLst>
                              <p:par>
                                <p:cTn id="370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38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7" dur="38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9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1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0"/>
                            </p:stCondLst>
                            <p:childTnLst>
                              <p:par>
                                <p:cTn id="384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7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920" y="3068640"/>
            <a:ext cx="5472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oni di Gesù per 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ezzi x essere  sempre + suo Am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5272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2428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5280" y="260280"/>
            <a:ext cx="762012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ACRAMENTI:</a:t>
            </a:r>
            <a:endParaRPr b="0" lang="en-US" sz="1800" spc="1" strike="noStrike">
              <a:ln w="12600">
                <a:solidFill>
                  <a:srgbClr val="ff99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92720" y="1484280"/>
            <a:ext cx="3048120" cy="5162760"/>
          </a:xfrm>
          <a:prstGeom prst="rect">
            <a:avLst/>
          </a:prstGeom>
          <a:ln w="0">
            <a:noFill/>
          </a:ln>
        </p:spPr>
      </p:pic>
    </p:spTree>
  </p:cSld>
  <p:transition spd="med" advTm="35000">
    <p:pull dir="rd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0"/>
                            </p:stCondLst>
                            <p:childTnLst>
                              <p:par>
                                <p:cTn id="414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Comic Sans MS"/>
              </a:rPr>
              <a:t>ACQU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1280" y="2708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ff"/>
                </a:solidFill>
                <a:latin typeface="Comic Sans MS"/>
              </a:rPr>
              <a:t>ARI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IA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4581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SO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565520" cy="6021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40360" y="1412640"/>
            <a:ext cx="547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 lavor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l’uo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5422680" cy="561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9564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 conc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allora diventerà una pianta belliss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450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Comic Sans MS"/>
              </a:rPr>
              <a:t>O un fiore stupen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05:16:58Z</dcterms:created>
  <dc:creator>Stefo&amp;Stefi</dc:creator>
  <dc:description/>
  <dc:language>en-US</dc:language>
  <cp:lastModifiedBy>Steo&amp;Stefi</cp:lastModifiedBy>
  <dcterms:modified xsi:type="dcterms:W3CDTF">2010-04-28T20:34:27Z</dcterms:modified>
  <cp:revision>14</cp:revision>
  <dc:subject/>
  <dc:title>CIAO</dc:title>
</cp:coreProperties>
</file>